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7.jpeg" ContentType="image/jpeg"/>
  <Override PartName="/ppt/media/image22.wmf" ContentType="image/x-wmf"/>
  <Override PartName="/ppt/media/image21.wmf" ContentType="image/x-wmf"/>
  <Override PartName="/ppt/media/image17.jpeg" ContentType="image/jpeg"/>
  <Override PartName="/ppt/media/image15.wmf" ContentType="image/x-wmf"/>
  <Override PartName="/ppt/media/image7.png" ContentType="image/png"/>
  <Override PartName="/ppt/media/image1.jpeg" ContentType="image/jpeg"/>
  <Override PartName="/ppt/media/image12.png" ContentType="image/png"/>
  <Override PartName="/ppt/media/image16.wmf" ContentType="image/x-wmf"/>
  <Override PartName="/ppt/media/image8.png" ContentType="image/png"/>
  <Override PartName="/ppt/media/image11.jpeg" ContentType="image/jpeg"/>
  <Override PartName="/ppt/media/image13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3.jpeg" ContentType="image/jpeg"/>
  <Override PartName="/ppt/media/image34.png" ContentType="image/png"/>
  <Override PartName="/ppt/media/image35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media/image6.wmf" ContentType="image/x-wmf"/>
  <Override PartName="/ppt/media/image19.jpeg" ContentType="image/jpeg"/>
  <Override PartName="/ppt/media/image10.jpeg" ContentType="image/jpeg"/>
  <Override PartName="/ppt/media/image9.wmf" ContentType="image/x-wmf"/>
  <Override PartName="/ppt/media/image18.wmf" ContentType="image/x-wmf"/>
  <Override PartName="/ppt/media/image2.jpeg" ContentType="image/jpeg"/>
  <Override PartName="/ppt/media/image14.wmf" ContentType="image/x-wmf"/>
  <Override PartName="/ppt/media/image2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5E06-D5C3-447D-AC7F-DCB5636DF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826E-D08B-4593-A17E-0EC14F980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45FE-7FD8-490E-A148-89FF64B6A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943D-CA84-4E88-807B-E526D8AC0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84BBF-25DB-47D5-A364-1574B54C8E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C8EEA-6782-4962-B47E-8AA90A0D55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BB83D-65FD-42EA-B180-70550388FC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942F0-3363-4F9F-A48B-71941884E9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8EC7A-AFE9-48FB-8B65-EA81D762DD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45B43-8940-4648-8BDB-6BCF5FC0B6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AD7E0-18E2-4CA2-9E1C-F104A911F3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21E05-1E7D-475D-A163-11A0FA1768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C8104-0899-485F-84FB-AC932195BD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1FB7E-B966-48A8-85F1-8E68F4C269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AE3B3-F1EA-4BDF-8B8F-9C708FFD90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DE3C0-590F-43E5-B2DC-B0B65D1AEA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A318-26EC-4F20-AD4A-4F11A3BBE2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jpeg"/><Relationship Id="rId3" Type="http://schemas.openxmlformats.org/officeDocument/2006/relationships/image" Target="../media/image19.jpeg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3.jpe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C577-A5D9-41ED-83A7-AA5C92D184B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1140-749C-420D-8711-B4B2989F235F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Évaluation Externe de la Qualité – EE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7" descr="CLSI_WHO_Blue_CMYK1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0" descr="bulles_CDC"/>
          <p:cNvPicPr/>
          <p:nvPr/>
        </p:nvPicPr>
        <p:blipFill>
          <a:blip r:embed="rId1"/>
          <a:stretch/>
        </p:blipFill>
        <p:spPr>
          <a:xfrm>
            <a:off x="1600200" y="3276720"/>
            <a:ext cx="2286000" cy="2190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12CB-23F3-4F6D-A9C0-1FCB11397EB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portante pour l’amélio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e mesure des performances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9EB7-DEE1-4010-BDE9-421F59581D2E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0608-016F-42CB-BD11-1D46EDB12CF8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228600" y="1600200"/>
            <a:ext cx="8686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Les programmes de contrôle d’efficacité/test de capacités sont des comparaisons inter laboratoires qui sont organisés régulièrement pour évaluer la performance des laboratoires d’analyses et la compétence du personnel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380880" y="457200"/>
            <a:ext cx="83822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7d"/>
                </a:solidFill>
                <a:latin typeface="Verdana"/>
              </a:rPr>
              <a:t>Définition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est de capacité (P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8E42-5E59-4A50-86FD-9A90B1E6AD6F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85CB-4E4F-4C6E-ADC6-8EE4C1142F00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0" y="1371600"/>
            <a:ext cx="9144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« Un programme dans lequel de nombreux échantillons sont périodiquement envoyés individuellement à un groupe de laboratoires pour y être analysés et/ou identifiés puis, dans lequel les résultats de chaque laboratoire sont comparés à ceux des autres et/ou à une valeur assignée. Un rapport est envoyé aux laboratoires participants et aux autres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7d"/>
                </a:solidFill>
                <a:latin typeface="Verdana"/>
              </a:rPr>
              <a:t>Définition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est de capac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DF69-E1A8-4EDA-B066-535D65B556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228600" y="1066680"/>
            <a:ext cx="3733920" cy="45972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rganisateur de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07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Line 9"/>
          <p:cNvSpPr/>
          <p:nvPr/>
        </p:nvSpPr>
        <p:spPr>
          <a:xfrm flipV="1">
            <a:off x="1374840" y="2184120"/>
            <a:ext cx="4225680" cy="14328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13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20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227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Rapport de performance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235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Text Box 39"/>
          <p:cNvSpPr/>
          <p:nvPr/>
        </p:nvSpPr>
        <p:spPr>
          <a:xfrm>
            <a:off x="6629400" y="3276720"/>
            <a:ext cx="175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our des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é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cessus de P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1"/>
          <p:cNvSpPr/>
          <p:nvPr/>
        </p:nvSpPr>
        <p:spPr>
          <a:xfrm>
            <a:off x="1219320" y="2286000"/>
            <a:ext cx="281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échantillon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envoyés réguliè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2"/>
          <p:cNvSpPr/>
          <p:nvPr/>
        </p:nvSpPr>
        <p:spPr>
          <a:xfrm>
            <a:off x="6473880" y="46483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p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apport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242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6"/>
          <p:cNvSpPr/>
          <p:nvPr/>
        </p:nvSpPr>
        <p:spPr>
          <a:xfrm>
            <a:off x="4267080" y="591192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Actions Corr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Document"/>
          <p:cNvSpPr/>
          <p:nvPr/>
        </p:nvSpPr>
        <p:spPr>
          <a:xfrm>
            <a:off x="4419720" y="472428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F78B-9689-40A9-A739-6F29B5AFE129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1187-A202-4AA4-B3E2-BF174FFA8856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255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6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257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1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ir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ir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AutoShape 26"/>
          <p:cNvCxnSpPr>
            <a:stCxn id="261" idx="2"/>
            <a:endCxn id="263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66" name="Text Box 30"/>
          <p:cNvSpPr/>
          <p:nvPr/>
        </p:nvSpPr>
        <p:spPr>
          <a:xfrm>
            <a:off x="1371600" y="5334120"/>
            <a:ext cx="217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s de discussion entre laborato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T: Rôles du 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apport PT final reç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270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271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274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04"/>
          <p:cNvSpPr/>
          <p:nvPr/>
        </p:nvSpPr>
        <p:spPr>
          <a:xfrm>
            <a:off x="4648320" y="3657600"/>
            <a:ext cx="32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sés de la même façon avec mê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méli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9"/>
          <p:cNvSpPr/>
          <p:nvPr/>
        </p:nvSpPr>
        <p:spPr>
          <a:xfrm>
            <a:off x="4343400" y="29718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 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0"/>
          <p:cNvSpPr/>
          <p:nvPr/>
        </p:nvSpPr>
        <p:spPr>
          <a:xfrm>
            <a:off x="6400800" y="2286000"/>
            <a:ext cx="18288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 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7EDD-DC36-41E1-A722-64AA67C5CE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609480" y="609480"/>
            <a:ext cx="8229600" cy="4220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’information provenant d’une participation à un programme de PT doit conduire à une amélioration au laboratoi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25"/>
          <p:cNvSpPr/>
          <p:nvPr/>
        </p:nvSpPr>
        <p:spPr>
          <a:xfrm>
            <a:off x="4572000" y="45720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99AD-C6D7-4446-B643-8B3F953005CB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228600" y="1600200"/>
            <a:ext cx="8686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sultats affectés par des variables non liées aux échantillons des pati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programme de PT ne détectera pas tous les problèm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 détectera pas les problèmes liés aux procédures pré et post analytiqu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Limites des 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A76C-BBD3-4042-AED4-74FA949B6C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utres méthodes d’EEQ</a:t>
            </a:r>
            <a:br>
              <a:rPr sz="32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 analyse/re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05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7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08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boratoire de réfé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boratoire Périphér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12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ontrô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14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17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20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323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5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326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327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9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330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331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334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337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340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2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8FA8-46D3-4A39-963E-FA07EAB9F83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329E-A37D-4F75-B651-9F92F1800883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 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é par un laboratoire de réfé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atiquée sur des tâches de sang sèches, sur des séru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n pratiquée en aveug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atistiquement significati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ée en premier pour les tests rapides VI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7" descr="_crop"/>
          <p:cNvPicPr/>
          <p:nvPr/>
        </p:nvPicPr>
        <p:blipFill>
          <a:blip r:embed="rId1"/>
          <a:stretch/>
        </p:blipFill>
        <p:spPr>
          <a:xfrm>
            <a:off x="6705720" y="4267080"/>
            <a:ext cx="1657080" cy="259092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CFB3-D3C3-4F45-9EFF-CAAD88EA2F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8AAF-29A5-42DE-9CF4-52F690EECC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contrôle 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chantillons choisis au has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ite biais d’échantillonnage systémat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atiquement significati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solution de désacco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tro information effic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 premier pour les lames de tuberculo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28" descr="compound_mic_steroscopic_mic"/>
          <p:cNvPicPr/>
          <p:nvPr/>
        </p:nvPicPr>
        <p:blipFill>
          <a:blip r:embed="rId2"/>
          <a:srcRect l="17806" t="11998" r="8903" b="0"/>
          <a:stretch/>
        </p:blipFill>
        <p:spPr>
          <a:xfrm>
            <a:off x="2895480" y="4556160"/>
            <a:ext cx="2241720" cy="1996920"/>
          </a:xfrm>
          <a:prstGeom prst="rect">
            <a:avLst/>
          </a:prstGeom>
          <a:ln w="0">
            <a:noFill/>
          </a:ln>
        </p:spPr>
      </p:pic>
      <p:sp>
        <p:nvSpPr>
          <p:cNvPr id="359" name="AutoShape 26"/>
          <p:cNvSpPr/>
          <p:nvPr/>
        </p:nvSpPr>
        <p:spPr>
          <a:xfrm>
            <a:off x="5334120" y="51814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9E64-2E30-4979-BF3D-0BC830952C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0E72-9CDE-4474-BF1C-E3C1805F6D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2F73-1D0D-45DA-89CC-D2FA5941E88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 la fin de ce module, les participants seront en mesure 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scuter l’importance de l’évaluation externe de la qualité (EEQ) dans l’amélioration de la qualité des résultats d’analy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crire au moins trois méthodes d’EEQ ainsi que leurs avantages et inconvén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baucher une méthode afin d’investiguer un résultat incorrect d’un échantillon d’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D097-F888-4015-96D3-27A7F335B14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708F-316B-473F-8E8D-58BB10E3B60F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Verdana"/>
              </a:rPr>
              <a:t>Comparaison de relecture pour la recherche de bacille acido-alcoolo-résistants sur des lames choisies en ouvert et sur des lames sélectionnées de façon aléatoire en aveugle</a:t>
            </a:r>
            <a:endParaRPr b="0" lang="en-US" sz="2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4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35" descr="?attid=0"/>
          <p:cNvPicPr/>
          <p:nvPr/>
        </p:nvPicPr>
        <p:blipFill>
          <a:blip r:embed="rId1"/>
          <a:stretch/>
        </p:blipFill>
        <p:spPr>
          <a:xfrm>
            <a:off x="609480" y="2900520"/>
            <a:ext cx="8077320" cy="26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C392-A769-4DF5-BE16-29397E8B807B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sur sit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304920" y="1219320"/>
            <a:ext cx="8839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btenir une image réaliste des pratiques du laboratoir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urnit une assistance dans les domaines qui posent un problè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9"/>
          <p:cNvSpPr/>
          <p:nvPr/>
        </p:nvSpPr>
        <p:spPr>
          <a:xfrm>
            <a:off x="304920" y="5791320"/>
            <a:ext cx="4419360" cy="70380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Groupe extérieur Organisa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4800600" y="426708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Visites Périod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6161-0C0D-4CB3-AD9B-DDD1485364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fr-FR" sz="2400" spc="-1" strike="noStrike">
                <a:solidFill>
                  <a:srgbClr val="00007d"/>
                </a:solidFill>
                <a:latin typeface="Verdana"/>
              </a:rPr>
              <a:t>Comparaison des performances avant et après le contrôle sur site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3" name="Text Box 51"/>
          <p:cNvSpPr/>
          <p:nvPr/>
        </p:nvSpPr>
        <p:spPr>
          <a:xfrm>
            <a:off x="3505320" y="646128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2:6(4):340-34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304920" y="1371600"/>
          <a:ext cx="8076960" cy="4915080"/>
        </p:xfrm>
        <a:graphic>
          <a:graphicData uri="http://schemas.openxmlformats.org/drawingml/2006/table">
            <a:tbl>
              <a:tblPr/>
              <a:tblGrid>
                <a:gridCol w="3235320"/>
                <a:gridCol w="2019240"/>
                <a:gridCol w="2822400"/>
              </a:tblGrid>
              <a:tr h="345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ble 1.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des performances des laboratoires avant et après le contrôle par check-l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eck-lis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nt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rès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pot à s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décontamination des crach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désinfect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poubelle (couverte) pour les déchets biologiq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bl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s techniciens ne se lavent pas les m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que de réac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uvais prélèvement de crach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uvaise tenue des regist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iquetage incorrect des lames/récipient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C224-C702-4F78-8EB0-D38B669E5733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E043-4F37-4D91-B2C5-8386C63F00B9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Test de capacités et Re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457200" y="1600200"/>
          <a:ext cx="8305920" cy="3809880"/>
        </p:xfrm>
        <a:graphic>
          <a:graphicData uri="http://schemas.openxmlformats.org/drawingml/2006/table">
            <a:tbl>
              <a:tblPr/>
              <a:tblGrid>
                <a:gridCol w="4121280"/>
                <a:gridCol w="2112840"/>
                <a:gridCol w="2071800"/>
              </a:tblGrid>
              <a:tr h="544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des tests de capacités (PT) et du recontrôle (R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thode/Caractéristiqu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inter laboratoir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chantillons simul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chantillons vra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 /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ps et ressources nécessai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alytes évalu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aucou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u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C665-C8F7-4D5B-B502-A60B361179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0F8D-364B-41E3-A18F-C580AC398F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Participation EEQ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commandée pour tous les laboratoi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se par I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6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397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8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399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20A5-43D0-46A2-9A96-20FF2326330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Processus de ges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r et analyser les échantillons d’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r les échantillons d’EEQ comme ceux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toutes les activité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vestiguer les défici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ndre des mesures correcti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muniquer les résult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Actions corr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6"/>
          <p:cNvSpPr/>
          <p:nvPr/>
        </p:nvSpPr>
        <p:spPr>
          <a:xfrm rot="16200000">
            <a:off x="3695760" y="5142960"/>
            <a:ext cx="609480" cy="838440"/>
          </a:xfrm>
          <a:prstGeom prst="downArrow">
            <a:avLst>
              <a:gd name="adj1" fmla="val 50000"/>
              <a:gd name="adj2" fmla="val 3439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C4CC-5669-4B98-BB30-A883C292D853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D71C-FF4F-4761-BD6A-FCA52B60088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de performances 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5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É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7"/>
          <p:cNvSpPr/>
          <p:nvPr/>
        </p:nvSpPr>
        <p:spPr>
          <a:xfrm>
            <a:off x="6248520" y="13716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estion de l’échantil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a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Pré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Post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ournisseur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5E08-A86E-4D56-B6C8-64C44B46D5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3A1B-8300-4542-8D3A-0C487E4768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’EEQ devrait conduire à des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les</a:t>
            </a:r>
            <a:br>
              <a:rPr sz="2400"/>
            </a:b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è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7"/>
          <p:cNvSpPr/>
          <p:nvPr/>
        </p:nvSpPr>
        <p:spPr>
          <a:xfrm>
            <a:off x="5334120" y="1371600"/>
            <a:ext cx="3504960" cy="3276720"/>
          </a:xfrm>
          <a:custGeom>
            <a:avLst/>
            <a:gdLst>
              <a:gd name="textAreaLeft" fmla="*/ 799920 w 3504960"/>
              <a:gd name="textAreaRight" fmla="*/ 2705040 w 350496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Mise en place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action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corr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0AA0-F213-4E38-B17B-D9FBD3B06290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5BC9-2BF9-439A-AD96-1031F08AD831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est un système utilisé pour vérifier objectivement les performances d’un laboratoire en utilisant une agence ou des installations exter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s les laboratoires devraient participer à une 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 existe plusieurs méthodes pour conduire une EEQ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échantillons d’EEQ doivent être traités comme ceux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AE75-4C9D-427C-B876-D7D5296DF90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C736-7EA8-4646-ACC0-A7DF0EF25BC0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utilisant des ressources précieuses, utiliser au mieux les résulta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ne devrait pas être une punitio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lle devrait être vue comme un outil d’amélior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est un des éléments critiques du système de gestion de la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bd07156_"/>
          <p:cNvPicPr/>
          <p:nvPr/>
        </p:nvPicPr>
        <p:blipFill>
          <a:blip r:embed="rId1"/>
          <a:stretch/>
        </p:blipFill>
        <p:spPr>
          <a:xfrm>
            <a:off x="5943600" y="304920"/>
            <a:ext cx="2655720" cy="22539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A1CF-E96B-4A81-9A0C-BD6BFA00E8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271C-395F-4F06-A9BB-38653ADCE4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82C7-F38A-4A48-91A2-E9020613A1D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24379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  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Un nouveau superviseur nommé au laboratoire a commencé à revoir les résultats antérieurs d’EEQ et observe que la performance des colorations de Gram a été mauvaise plusieurs fois.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</a:rPr>
              <a:t>« Comment le laboratoire devrait il investiguer ce problème ?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7544-2101-47AF-86CB-292779EBAB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9BAB-19A0-45AB-857E-7F6762D1C3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486040" y="1828800"/>
            <a:ext cx="342900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DE88-68A0-4010-8C22-11D3191A99DB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F656-4438-41F4-B37A-65AE416AB7C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"/>
          <p:cNvSpPr/>
          <p:nvPr/>
        </p:nvSpPr>
        <p:spPr>
          <a:xfrm>
            <a:off x="990720" y="533520"/>
            <a:ext cx="76197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75" descr="bulles_def"/>
          <p:cNvPicPr/>
          <p:nvPr/>
        </p:nvPicPr>
        <p:blipFill>
          <a:blip r:embed="rId1"/>
          <a:stretch/>
        </p:blipFill>
        <p:spPr>
          <a:xfrm>
            <a:off x="457200" y="129528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9FB2-0F6D-4AFE-82EF-E670425809A3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1218-D57D-473A-8C2A-E457278828CB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61976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7" name="Picture 66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2779-E5E0-4E15-B9BA-A96179EA778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Évaluation Externe de la qualité</a:t>
            </a: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Système servant à vérifier objectivement la performance des laboratoires en utilisant une agence ou des installations externes.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47B8-CE79-499E-A66B-B3CA2B365A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070B-F78B-4B49-B615-82A6BCF658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0" descr="Untitled-11"/>
          <p:cNvPicPr/>
          <p:nvPr/>
        </p:nvPicPr>
        <p:blipFill>
          <a:blip r:embed="rId1"/>
          <a:stretch/>
        </p:blipFill>
        <p:spPr>
          <a:xfrm>
            <a:off x="228600" y="1600200"/>
            <a:ext cx="853452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9" descr="MCBS01691_0000[1]"/>
          <p:cNvPicPr/>
          <p:nvPr/>
        </p:nvPicPr>
        <p:blipFill>
          <a:blip r:embed="rId1"/>
          <a:stretch/>
        </p:blipFill>
        <p:spPr>
          <a:xfrm>
            <a:off x="7086600" y="4495680"/>
            <a:ext cx="1424160" cy="23623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6"/>
          <p:cNvSpPr/>
          <p:nvPr/>
        </p:nvSpPr>
        <p:spPr>
          <a:xfrm>
            <a:off x="380880" y="1873080"/>
            <a:ext cx="8763120" cy="43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paraison entre différents sites d’analy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mier avertissement sur les problèmes systématiqu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uve objective de la qualité des analys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nt les domaines ayant besoin d’être amélior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nt les besoins de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7E96-BA4D-415C-BEC0-187AF41B192A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919B-16D0-43E6-B6C6-ED8F8C8B17C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Externe de la Qualité (EEQ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340B-1689-442D-9ACD-A46B96F29D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Bénéfices de l’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fs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é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i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5029200" y="1295280"/>
            <a:ext cx="358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Objectifs</a:t>
            </a:r>
            <a:br>
              <a:rPr sz="2800"/>
            </a:b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orientés</a:t>
            </a:r>
            <a:br>
              <a:rPr sz="2800"/>
            </a:b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Santé publ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E616-42E4-44FE-BC0C-03400EA56E03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E764-3934-439C-9C96-E23F63CFFEC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2" descr="Untitled-10"/>
          <p:cNvPicPr/>
          <p:nvPr/>
        </p:nvPicPr>
        <p:blipFill>
          <a:blip r:embed="rId1"/>
          <a:stretch/>
        </p:blipFill>
        <p:spPr>
          <a:xfrm>
            <a:off x="533520" y="438120"/>
            <a:ext cx="792468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6T15:58:19Z</dcterms:modified>
  <cp:revision>38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